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8A60-5B1B-44FC-9048-7D94078F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6BD-8AE0-4667-945C-03E79E6D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F6DB-6711-4096-B746-8C3D81FF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CD82-53D1-491F-B9CA-A6E1883F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5206-52CE-4AAD-BAA2-B33293B3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D8BE-A9FE-4EA1-BAAF-66F6289B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AF3D-AE1C-44BF-8D59-981BEF84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36DA-3AAD-40E8-92F7-A46A75F0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7BF4-75FE-42A8-AAAC-4B177195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8B4A-A6EF-42A6-A775-9C13FA08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D74B-AFEC-4E3A-BD1B-439F9B77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2DA-7591-485F-AF0E-9A7656A7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3FC0-5940-4250-BE88-812DE84B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0B81-3416-4098-92A6-3B026739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F487-E4E2-41E7-9CA6-8B60BF33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0CA2-CA6F-4165-A9EA-E6E49E2A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CA09-CA37-45B8-A9F0-815DE2A4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89B0-174C-40C0-88AD-63CA7715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9CA9-35C1-4F52-889D-8D821AEF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DCD0-D574-475B-9AEC-1E20F151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0CF4-C76C-4875-9EBB-8CB3A3F2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B7E1-4CC4-4C3F-A6BE-B4A2D51F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2E5B-5F47-46CE-A8DB-D57BE38E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253-6E96-4B71-8B1B-96D0ECE1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D375-1DFB-497C-89D4-6600DBBF4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F572-6245-462F-811E-046DBCEEE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07200" y="175248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OC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90520" y="17524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94240" y="1447920"/>
            <a:ext cx="15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13360" y="17524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 It 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896120" y="3168720"/>
            <a:ext cx="36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 Annex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911240" y="3168720"/>
            <a:ext cx="40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takeover of lan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WW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908720" y="3168720"/>
            <a:ext cx="44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did WWI occu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WW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901880" y="316872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914 - 191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WW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886040" y="3168720"/>
            <a:ext cx="54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event triggered the START of WWI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WW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910160" y="3168720"/>
            <a:ext cx="647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assassination of the Archdu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Serbi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WW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926720" y="3168720"/>
            <a:ext cx="70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a part of the triple allian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WW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743840" y="2666880"/>
            <a:ext cx="65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rmany, Austria – Hungary, Ita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WW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912320" y="3168720"/>
            <a:ext cx="66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part of the Triple Enten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WW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919160" y="3168720"/>
            <a:ext cx="549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at Britain, France, Russ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893240" y="316872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 Alli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WW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1912320" y="3168720"/>
            <a:ext cx="51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id WWI finally e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WW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1919160" y="3168720"/>
            <a:ext cx="56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rmany was forced to sign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eaty, which ended the w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WW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917000" y="3168720"/>
            <a:ext cx="581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event caused the US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ally get involved in WWII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WW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911960" y="3168720"/>
            <a:ext cx="702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US was bombed at Pearl Harbo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WW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916280" y="3168720"/>
            <a:ext cx="536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Jews were kill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uring the Holocau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WW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900800" y="316872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 mill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WW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1910880" y="3168720"/>
            <a:ext cx="662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rmany broke their alli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th which country during WWII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WW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894320" y="3168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s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WW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1924560" y="3168720"/>
            <a:ext cx="656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the Battle of Stalingra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WW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922760" y="3168720"/>
            <a:ext cx="609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first defeat of the Germ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my during WWII.  It chang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ourse of the war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859760" y="31687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country who is on the same sid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uring a w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WW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947240" y="3168720"/>
            <a:ext cx="605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was the final surrender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WII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Europ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As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WW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921320" y="3168720"/>
            <a:ext cx="491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urope – May 7, 194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ia – September 2, 194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Conflict in Euro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918800" y="3168720"/>
            <a:ext cx="571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two religious groups 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ghting in Northern Irela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Conflict in Euro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914840" y="3168720"/>
            <a:ext cx="47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holics and Protesta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Conflict in Euro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1923480" y="3168720"/>
            <a:ext cx="647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two countries were involv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Cold W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Conflict in Euro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918080" y="3168720"/>
            <a:ext cx="54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ussia and the United St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Conflict in Euro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900080" y="3168720"/>
            <a:ext cx="648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old War was considered 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ms race.  What does this mea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Conflict in Euro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1447920" y="2133720"/>
            <a:ext cx="563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as a cold war beca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was no fight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were racing to s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could make the most weap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Conflict in Euro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924200" y="3168720"/>
            <a:ext cx="66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United States used the worl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rst _______ during WWII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country were these used 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Conflict in Euro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912320" y="3168720"/>
            <a:ext cx="296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omic Bomb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ap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907640" y="3168720"/>
            <a:ext cx="33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 Holocau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Conflict in Euro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869840" y="3168720"/>
            <a:ext cx="46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ld War and the Vietnam W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fought over what poli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Conflict in Euro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1904400" y="316872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unism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Mix it Up!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889280" y="3168720"/>
            <a:ext cx="662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Europe’s highest mounta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n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Mix it Up!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901880" y="31687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Mix it Up!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917720" y="3168720"/>
            <a:ext cx="53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hunnel connects whi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wo European Countri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Mix it Up!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909080" y="3168720"/>
            <a:ext cx="35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itain and F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Mix it Up!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868040" y="3168720"/>
            <a:ext cx="577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 first, why was the Chunn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T cre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Mix it Up!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921320" y="3168720"/>
            <a:ext cx="587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itain was afraid that it wou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d to a French invas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Mix it Up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920240" y="3168720"/>
            <a:ext cx="605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was the League of N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Mix it Up!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1846800" y="3124080"/>
            <a:ext cx="641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event a future war from ever happening ag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WW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863000" y="3168720"/>
            <a:ext cx="568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ass killing of a specific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oup of peop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Mix It Up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1930680" y="3168720"/>
            <a:ext cx="6628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ivided Communist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n Communist Europe during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ld W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880640" y="3168720"/>
            <a:ext cx="24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rlin Wa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776240" y="1905120"/>
            <a:ext cx="530424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ease explain the Treaty of Versail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id it d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was it creat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 country did it affect the MOS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it help cause WWII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MacOS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847160" y="3168720"/>
            <a:ext cx="27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 ghet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931400" y="3168720"/>
            <a:ext cx="704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area that Jews were sent to du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WII, before being sent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centration cam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Vocab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922400" y="3168720"/>
            <a:ext cx="63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the Chunnel stand fo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VOCAB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906920" y="3168720"/>
            <a:ext cx="544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English Channel Tunn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20:26:55Z</dcterms:created>
  <dc:creator>SCPS</dc:creator>
  <dc:description/>
  <dc:language>en-US</dc:language>
  <cp:lastModifiedBy>Robin Jadick</cp:lastModifiedBy>
  <dcterms:modified xsi:type="dcterms:W3CDTF">2011-05-02T12:13:58Z</dcterms:modified>
  <cp:revision>22</cp:revision>
  <dc:subject/>
  <dc:title>Jeopardy</dc:title>
</cp:coreProperties>
</file>